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8EC4A-F823-45A8-9048-429635C38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29CD-E8D1-4C8D-BAA3-AABE6EB3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C06FA-797E-4F22-B9E9-8D1C2D5B6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BE6F4-18E5-42AF-9701-6C88296BA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905A6-6CDD-4F8D-B15C-08841BFD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2EFA-0DB3-4761-B7B6-96FEEBB4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F84FF-1995-4CE9-B5D1-C3C23A4E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4F82A-558F-4C81-A69D-8EEC32E3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A3F88-A171-4140-BA91-7D63CF02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8882-5A1E-4D51-92FF-3A4837F2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5DE6-64C1-4113-804D-33822AF1C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88E8-0276-4B81-B86B-627354113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2CEA-DD18-4204-83F8-843C322189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Final1"/>
          <p:cNvPicPr/>
          <p:nvPr/>
        </p:nvPicPr>
        <p:blipFill>
          <a:blip r:embed="rId2"/>
          <a:srcRect l="2480" t="62685" r="1268" b="13613"/>
          <a:stretch/>
        </p:blipFill>
        <p:spPr>
          <a:xfrm>
            <a:off x="6372360" y="6237360"/>
            <a:ext cx="27716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echnologystudent.com/despro_flsh/graphics_main1.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07560"/>
            <a:ext cx="77724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Year 12 Transition Work</a:t>
            </a:r>
            <a:br>
              <a:rPr sz="4400"/>
            </a:br>
            <a:r>
              <a:rPr b="0" lang="en-GB" sz="4400" spc="-1" strike="noStrike">
                <a:solidFill>
                  <a:srgbClr val="000000"/>
                </a:solidFill>
                <a:latin typeface="Arial"/>
              </a:rPr>
              <a:t>A’level</a:t>
            </a:r>
            <a:br>
              <a:rPr sz="4400"/>
            </a:br>
            <a:r>
              <a:rPr b="0" lang="en-GB" sz="4400" spc="-1" strike="noStrike">
                <a:solidFill>
                  <a:srgbClr val="000000"/>
                </a:solidFill>
                <a:latin typeface="Arial"/>
              </a:rPr>
              <a:t>Design and Technology</a:t>
            </a:r>
            <a:br>
              <a:rPr sz="4400"/>
            </a:b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tasks should take at least 5 hours to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258920" y="178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1: Two Point Perspective</a:t>
            </a:r>
            <a:endParaRPr b="0" lang="en-US" sz="4000" spc="-1" strike="noStrike">
              <a:solidFill>
                <a:srgbClr val="000000"/>
              </a:solidFill>
              <a:latin typeface="Arial"/>
            </a:endParaRPr>
          </a:p>
        </p:txBody>
      </p:sp>
      <p:sp>
        <p:nvSpPr>
          <p:cNvPr id="45" name="Text Box 6"/>
          <p:cNvSpPr/>
          <p:nvPr/>
        </p:nvSpPr>
        <p:spPr>
          <a:xfrm>
            <a:off x="3600360" y="1501920"/>
            <a:ext cx="5543640" cy="604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wo point perspective produce a realistic drawing of this Dyson Vacuum cleaner. Include colour and sha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guide lines and a horizon li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Remember</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se boxes as guides when drawing circles and cylin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lightly and go over lines when you are happy that they are corre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vertical lines remain ver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shading, imagine the light is coming from one direction. Used the ‘full’ range of light and shade. (Press on hard in the dark areas and leave light / highlights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
          <p:cNvSpPr/>
          <p:nvPr/>
        </p:nvSpPr>
        <p:spPr>
          <a:xfrm>
            <a:off x="179280" y="5229360"/>
            <a:ext cx="333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lpful techniques can be found here at technologystudent.c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http://www.technologystudent.com/despro_flsh/graphics_main1.html</a:t>
            </a:r>
            <a:endParaRPr b="0" lang="en-US" sz="1600" spc="-1" strike="noStrike">
              <a:solidFill>
                <a:srgbClr val="000000"/>
              </a:solidFill>
              <a:latin typeface="Arial"/>
            </a:endParaRPr>
          </a:p>
        </p:txBody>
      </p:sp>
      <p:pic>
        <p:nvPicPr>
          <p:cNvPr id="47" name="Picture 2" descr=""/>
          <p:cNvPicPr/>
          <p:nvPr/>
        </p:nvPicPr>
        <p:blipFill>
          <a:blip r:embed="rId2"/>
          <a:stretch/>
        </p:blipFill>
        <p:spPr>
          <a:xfrm>
            <a:off x="119160" y="1503360"/>
            <a:ext cx="3392280" cy="33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2: Third Angle Orthographic Projection</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thographic drawings enable the manufacture to see the product from a variety of angles.  Top, Front, Sid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ings are drawn to sca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ailed measurements can be included.</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re to produce a 3</a:t>
            </a:r>
            <a:r>
              <a:rPr b="0" lang="en-GB" sz="2400" spc="-1" strike="noStrike" baseline="30000">
                <a:solidFill>
                  <a:srgbClr val="000000"/>
                </a:solidFill>
                <a:latin typeface="Arial"/>
              </a:rPr>
              <a:t>rd</a:t>
            </a:r>
            <a:r>
              <a:rPr b="0" lang="en-GB" sz="2400" spc="-1" strike="noStrike">
                <a:solidFill>
                  <a:srgbClr val="000000"/>
                </a:solidFill>
                <a:latin typeface="Arial"/>
              </a:rPr>
              <a:t> angle orthographic drawing of an everyday household object- Kitchen appliance or handheld device for examp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guide lines as shown on p5 to reduce the amount of measur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ruler is essential for this task.</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
          <p:cNvSpPr/>
          <p:nvPr/>
        </p:nvSpPr>
        <p:spPr>
          <a:xfrm>
            <a:off x="108000" y="5892840"/>
            <a:ext cx="633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lpful techniques can be found here at technologystudent.c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technologystudent.com/despro_flsh/graphics_main1.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3: Exam question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how the Just in Time (JIT) system is used to achieve lean manufacturing in industry.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is is a 6 mark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a:t>
            </a:r>
            <a:r>
              <a:rPr b="1" lang="en-GB" sz="2400" spc="-1" strike="noStrike">
                <a:solidFill>
                  <a:srgbClr val="000000"/>
                </a:solidFill>
                <a:latin typeface="Arial"/>
              </a:rPr>
              <a:t>advantages</a:t>
            </a:r>
            <a:r>
              <a:rPr b="0" lang="en-GB" sz="2400" spc="-1" strike="noStrike">
                <a:solidFill>
                  <a:srgbClr val="000000"/>
                </a:solidFill>
                <a:latin typeface="Arial"/>
              </a:rPr>
              <a:t> of using coal as a source of ener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a:t>
            </a:r>
            <a:r>
              <a:rPr b="1" lang="en-GB" sz="2400" spc="-1" strike="noStrike">
                <a:solidFill>
                  <a:srgbClr val="000000"/>
                </a:solidFill>
                <a:latin typeface="Arial"/>
              </a:rPr>
              <a:t>disadvantage </a:t>
            </a:r>
            <a:r>
              <a:rPr b="0" lang="en-GB" sz="2400" spc="-1" strike="noStrike">
                <a:solidFill>
                  <a:srgbClr val="000000"/>
                </a:solidFill>
                <a:latin typeface="Arial"/>
              </a:rPr>
              <a:t>of using solar power as a source of energy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10 marks in total for these two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ask 4: Produce a 3D drawing using CAD</a:t>
            </a:r>
            <a:br>
              <a:rPr sz="4000"/>
            </a:br>
            <a:endParaRPr b="0" lang="en-US" sz="3000" spc="-1" strike="noStrike">
              <a:solidFill>
                <a:srgbClr val="000000"/>
              </a:solidFill>
              <a:latin typeface="Arial"/>
            </a:endParaRPr>
          </a:p>
        </p:txBody>
      </p:sp>
      <p:sp>
        <p:nvSpPr>
          <p:cNvPr id="54" name="PlaceHolder 2"/>
          <p:cNvSpPr>
            <a:spLocks noGrp="1"/>
          </p:cNvSpPr>
          <p:nvPr>
            <p:ph/>
          </p:nvPr>
        </p:nvSpPr>
        <p:spPr>
          <a:xfrm>
            <a:off x="455400" y="571320"/>
            <a:ext cx="8528040" cy="208908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a drawing of a product using a CAD programme. You may have already used programmes such as Inventor or Google Sketch Up- you can produce it using one of these. However you will need to use Fusion 360 during the course so it would be helpful to download it from the link below and familiarise yourself with it during the summer.</a:t>
            </a:r>
            <a:endParaRPr b="0" lang="en-US" sz="18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haven’t used a one before it is important you get yourself familiar with a CAD programme. An excellent one is Autodesk Fusion 360 which is free to download. The link is below.</a:t>
            </a:r>
            <a:endParaRPr b="0" lang="en-US" sz="18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
          <p:cNvPicPr/>
          <p:nvPr/>
        </p:nvPicPr>
        <p:blipFill>
          <a:blip r:embed="rId1"/>
          <a:srcRect l="44045" t="19695" r="18654" b="15023"/>
          <a:stretch/>
        </p:blipFill>
        <p:spPr>
          <a:xfrm>
            <a:off x="6513480" y="3781440"/>
            <a:ext cx="2630520" cy="3068640"/>
          </a:xfrm>
          <a:prstGeom prst="rect">
            <a:avLst/>
          </a:prstGeom>
          <a:ln w="0">
            <a:noFill/>
          </a:ln>
        </p:spPr>
      </p:pic>
      <p:sp>
        <p:nvSpPr>
          <p:cNvPr id="56" name="TextBox 1"/>
          <p:cNvSpPr/>
          <p:nvPr/>
        </p:nvSpPr>
        <p:spPr>
          <a:xfrm>
            <a:off x="446040" y="3751200"/>
            <a:ext cx="5843520" cy="4636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tutorials on here and useful projects on youtub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 variety of excellent tutorials on the Autodesk website but also on youtube. The link here is to a guy who has posted tutorials on how to learn the software in 30 days- a sketch a day </a:t>
            </a:r>
            <a:r>
              <a:rPr b="0" lang="en-GB" sz="1800" spc="-1" strike="noStrike">
                <a:solidFill>
                  <a:srgbClr val="000000"/>
                </a:solidFill>
                <a:latin typeface="Wingdings"/>
                <a:ea typeface="Wingdings"/>
              </a:rPr>
              <a:t></a:t>
            </a:r>
            <a:r>
              <a:rPr b="0" lang="en-GB" sz="1800" spc="-1" strike="noStrike">
                <a:solidFill>
                  <a:srgbClr val="000000"/>
                </a:solidFill>
                <a:latin typeface="Arial"/>
              </a:rPr>
              <a:t>. They are approx. 6-10mins long here https://youtu.be/M9LCCwP0tTg The more you play around with these CAD programmes the better you will become. This is an essential skill to have for this cour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2"/>
          <p:cNvSpPr/>
          <p:nvPr/>
        </p:nvSpPr>
        <p:spPr>
          <a:xfrm>
            <a:off x="611280" y="3232080"/>
            <a:ext cx="837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autodesk.com/products/fusion-360/students-teachers-educa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9:21:52Z</dcterms:created>
  <dc:creator>philliprogers</dc:creator>
  <dc:description/>
  <dc:language>en-US</dc:language>
  <cp:lastModifiedBy>A Henderson</cp:lastModifiedBy>
  <dcterms:modified xsi:type="dcterms:W3CDTF">2020-04-28T11:39:03Z</dcterms:modified>
  <cp:revision>20</cp:revision>
  <dc:subject/>
  <dc:title>Year 12 summer project ‘11</dc:title>
</cp:coreProperties>
</file>